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5D9A-4D5B-4716-AB9C-467E6E03D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8E41-AF88-4B21-A7B8-D0C634FAB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14E425-AAA8-4C7B-9C1E-6652B38D2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B369-0236-4E0D-87B5-4156F095C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141FDF-5A68-4197-8B41-F4E576ED3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6EF0-0AA6-46CF-B206-007A99EE8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18A7-2F21-453A-AD72-66908D8BE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96B7-2418-4CFD-9227-1CEF64D88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CB9F-99C3-4A21-882F-E0803139D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80E5-E14A-497C-AF5E-8BD5FD876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21D2-E351-41F4-9D42-5E1F255AA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CE89-A1DC-4FC2-88CF-CD92629BF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3174-BFFC-4C82-A551-1347D3F9A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25E780-F8EA-48DC-BBA5-9C01D7791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1614-E0E9-4405-A1C4-402A3AF18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E719-E4BC-4EE0-BC58-16AC0C9A7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291B-7013-48C3-AF15-3E4FF68DB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81D54F-D930-4337-8A04-BD7998A86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od.openlinksw.com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3.org/blog/hcls" TargetMode="External"/><Relationship Id="rId2" Type="http://schemas.openxmlformats.org/officeDocument/2006/relationships/hyperlink" Target="http://esw.w3.org/topic/HCLSIG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cls.deri.org/hcls_demo.html" TargetMode="External"/><Relationship Id="rId2" Type="http://schemas.openxmlformats.org/officeDocument/2006/relationships/hyperlink" Target="http://hcls.deri.org/coi/demo/" TargetMode="External"/><Relationship Id="rId3" Type="http://schemas.openxmlformats.org/officeDocument/2006/relationships/hyperlink" Target="http://www.w3.org/2009/08/7tmdemo" TargetMode="External"/><Relationship Id="rId4" Type="http://schemas.openxmlformats.org/officeDocument/2006/relationships/hyperlink" Target="http://adaptivedisclosure.org/" TargetMode="External"/><Relationship Id="rId5" Type="http://schemas.openxmlformats.org/officeDocument/2006/relationships/hyperlink" Target="http://sourceforge.net/projects/swobjects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CLS Tutorial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W3C Health Care and Life Sciences Interes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omplishments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ference Presenta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o-IT World, WWW, ISMB, AMIA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Co)Organized Workshop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-SHALS, SWASD, SWAT4LS 2009, IEEE Worksh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blica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edings of LOD Workshop at WWW 2009: Enabling Tailored Therapeutics with Linked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edings of the ICBO: Pharma Ontology: Creating a Patient-Centric Ontology for Translational Medic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IA Spring Symposium: Clinical Observations Interoperability: A Semantic Web Approa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MC Bioinformatics. A Journey to Semantic Web Query Federation in Life Sci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iefings in Bioinformatics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 Life sciences on the Semantic Web: The Neurocommons and Beyo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’ve come a long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iplestores have gone from millions to bill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nked Open Data clou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 u="sng">
                <a:solidFill>
                  <a:srgbClr val="8dc765"/>
                </a:solidFill>
                <a:uFillTx/>
                <a:latin typeface="Calibri"/>
                <a:hlinkClick r:id="rId1"/>
              </a:rPr>
              <a:t>http://lod.openlinksw.com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 demand Knowledge Bases: Amazon’s EC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rminologies: SNOMED-CT, MeSH, UMLS, 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urocommons, Flyweb, Biogateway, Bio2RDF, Linked Lif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ared Names, NCBO’s BioPortal, Concept Web Alliance (CW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LS/CWA/SIB Uniprot project star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netrance of ontology in biomedi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BO Foundry - http://www.obofoundry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ioPortal - http://bioportal.bioontology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al Centers for Biomedical Computing http://www.ncbcs.org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ared Names http://sharednames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cept Web Alliance http://conceptweblog.wordpress.com/conferences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mantic Web Interest Group PRISM Forum http://www.prismforum.org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k packages in ELIXIR http://www.elixir-europe.org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ve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resent knowledge so that others can discover where a fact (or triple) came from and evaluating how to use it – link facts to data as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d g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CLS works together with the Provenance IG (Yolanda Gi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s come up in work in BioRDF and SciDisc task fo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cept Web Alliance has adopted SWAN/SIOC as the starting point for modeling prov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ed Identif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use common URI’s in order to link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enance rela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iers for people (research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minology servers (identifiers for ter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rs for comp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d Names initi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mmon mis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ng a Semantic Web application does not necessarily require converting and storing all data in RD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 the data where it liv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ew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data accessible via RDF export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SPARQL end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ting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468080"/>
            <a:ext cx="80773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s to getting involved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rtise - Early access to use cases and best 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luence standard recomme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effective exploration of new technology through collaboration and netwo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ak to any of us after the sessi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ail chairs and team cont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-hcls-chairs@w3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e in the next F2F (last one was here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esw.w3.org/topic/HCLSIG/Meetings/2009-11-30_F2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torial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Intro to W3C HCLS I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M. Scott Marsh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ealth Care Use Ca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 - Vipul Kashy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harma Use Ca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Elgar Pich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ientific Discourse Use Cas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Tim Cl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rminology Considera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John Mad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derated Que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Kei Che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oduction to HC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M. Scott Marshall</a:t>
            </a:r>
            <a:br>
              <a:rPr sz="3000"/>
            </a:b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co-chair HCLS IG</a:t>
            </a:r>
            <a:br>
              <a:rPr sz="3000"/>
            </a:b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Leiden University Medical Center</a:t>
            </a:r>
            <a:br>
              <a:rPr sz="3000"/>
            </a:b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University of Amsterd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of the HCLS 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iginally chartered in 200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irs: Eric Neumann and Tonya Hongserme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-chartered in 200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irs: Scott Marshall and Susie Steph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m contact: Eric Prud’hommea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oad industry particip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100 memb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ling list of over 6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ground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Calibri"/>
                <a:hlinkClick r:id="rId1"/>
              </a:rPr>
              <a:t>http://www.w3.org/blog/hc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Calibri"/>
                <a:hlinkClick r:id="rId2"/>
              </a:rPr>
              <a:t>http://esw.w3.org/topic/HCLSI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sion of HCLS 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90720" y="162036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ission of HCLS is to develop, advocate for, and support the use of Semantic Web technologies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ological sc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nslational medic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domains stand to gain tremendous benefit by adoption of Semantic Web technologies, as they depend on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operability of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many domains and processes for efficient decision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anslating across dom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ional medicine – use cases that cross dom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k across domains and research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are the link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ne – transcription factor – prote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thway – molecular interaction – chemical comp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ug – drug side effect – chemical comp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ut als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nk discourse to raw 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ocument use ca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id individuals in understanding the business and technical benefits of using Semantic Web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ocument guidelin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lerate the adoption of the techn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election of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 ca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s proof-of-concept demonst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velo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igh-leve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ocabula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sseminate in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bout the group’s work at government, industry, and academic ev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es the HCLS IG wor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k fo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 teleconferences using teleconference bridge (Zakim), IRC,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2Face (F2F) twice a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dures for publishing W3C no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Task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620720"/>
            <a:ext cx="85345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ioRDF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federating (neuroscience) knowledge ba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i Cheung (Yale Universit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inical Observations Interoperabilit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patient recruitment in tri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pul Kashyap (Cigna Healthca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inking Open Drug Data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aggregation of Web-based drug dat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ris Bizer (Free University Berl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lational Medicine Ontolog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high level patient-centric ont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risti Denney (Eli Lill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ientific Discours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building communities through networ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 Clark (Harvard Univers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rminolog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Semantic Web representation of existing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hn Madden (Duke Universit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monstration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8dc765"/>
                </a:solidFill>
                <a:uFillTx/>
                <a:latin typeface="Calibri"/>
                <a:hlinkClick r:id="rId1"/>
              </a:rPr>
              <a:t>http://hcls.deri.org/hcls_demo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monstrator of querying across heterogeneous EHR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8dc765"/>
                </a:solidFill>
                <a:uFillTx/>
                <a:latin typeface="Calibri"/>
                <a:hlinkClick r:id="rId2"/>
              </a:rPr>
              <a:t>http://hcls.deri.org/coi/demo/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hlinkClick r:id="rId3"/>
              </a:rPr>
              <a:t>http://www.w3.org/2009/08/7tmdem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8dc765"/>
                </a:solidFill>
                <a:uFillTx/>
                <a:latin typeface="Calibri"/>
                <a:hlinkClick r:id="rId4"/>
              </a:rPr>
              <a:t>http://ws.adaptivedisclosure.org/sear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CLS KB hosted at 2 institu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nked Open Data contribu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rest Group Not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CLS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gration of SWAN and SIOC ontologies for Scientific Discour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W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IO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WAN-SIO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echnologies: 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hlinkClick r:id="rId5"/>
              </a:rPr>
              <a:t>http://sourceforge.net/projects/swobjects/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7:35:17Z</dcterms:created>
  <dc:creator>sstephens1</dc:creator>
  <dc:description/>
  <dc:language>en-US</dc:language>
  <cp:lastModifiedBy>scott</cp:lastModifiedBy>
  <dcterms:modified xsi:type="dcterms:W3CDTF">2010-02-24T19:58:48Z</dcterms:modified>
  <cp:revision>18</cp:revision>
  <dc:subject/>
  <dc:title>Slide 1</dc:title>
</cp:coreProperties>
</file>